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6F4-A6A6-43E1-B7C8-7C2DA11B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B71-30BC-4F96-8699-3B26811B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7DB-B422-4F37-B841-8BFF342D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766A-FCCF-4FEC-BB3E-68F7F661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FD2-8CA9-4551-94EC-316F2C19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93F-4047-4D88-AB7B-93829FB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802-4C90-43F3-B684-84652318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5D62-29A9-473F-99C0-1D9018AD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F356-55DB-438F-BB38-4F8B3B32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16A7-20AA-4B6D-BBDF-03D30E61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984-15F6-4A70-87D0-49D916B3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595B-7CFB-46DF-802A-686557FC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L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406D-75FD-4808-A9EF-CCE31E25940B}" type="slidenum">
              <a:rPr b="0" lang="ar-L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0"/>
            <a:ext cx="6932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 u="sng">
                <a:solidFill>
                  <a:srgbClr val="000000"/>
                </a:solidFill>
                <a:uFillTx/>
                <a:latin typeface="Times New Roman"/>
                <a:cs typeface="Diwany6 Normal"/>
              </a:rPr>
              <a:t>نشيد المناولة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ar-SA" sz="8000" spc="-1" strike="noStrike">
                <a:solidFill>
                  <a:srgbClr val="000000"/>
                </a:solidFill>
                <a:latin typeface="Tahoma"/>
                <a:cs typeface="????Boutros Rokaa"/>
              </a:rPr>
              <a:t>لوحي يا غصون الز يتو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عّي يا قدس التذكا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بل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ير بل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ردّي كل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ناس زغار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صللوا للفجر الب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عوب الأرض تهنّ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مشعال السلم ال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خلّيكي بإلف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نّي إنتِ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قدس بلادي هوشعنا الربّ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 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سوع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تمّ الاطفال غنيّة صوت الشادي </a:t>
            </a:r>
            <a:endParaRPr b="0" lang="en-US" sz="9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إسمك عاطول الأجيال ع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تهلّلْ وتنادي هوشعنا الربّ الفادي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لوحي يا غصون الزيتون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شلوح النخل تهادي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73080" y="0"/>
            <a:ext cx="629928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حيّي الـملقى</a:t>
            </a:r>
            <a:br>
              <a:rPr sz="8200"/>
            </a:b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صهيون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لسان ولادِك نادي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ّ الفادي.</a:t>
            </a:r>
            <a:r>
              <a:rPr b="1" lang="en-US" sz="82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0"/>
            <a:ext cx="615636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ي بيت لحم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ميلاد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أطفال انقطفوا شهاد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6720" y="0"/>
            <a:ext cx="6696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اليوم شهدوا بأعيادك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وغنوا بالقدس زياده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هوشعنا الرب الفادي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20:34:43Z</dcterms:created>
  <dc:creator>Charbel Azar</dc:creator>
  <dc:description/>
  <dc:language>en-US</dc:language>
  <cp:lastModifiedBy>Charbel Azar</cp:lastModifiedBy>
  <dcterms:modified xsi:type="dcterms:W3CDTF">2003-03-14T21:26:50Z</dcterms:modified>
  <cp:revision>4</cp:revision>
  <dc:subject/>
  <dc:title>Slide 1</dc:title>
</cp:coreProperties>
</file>